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1CA-91DD-42B5-986B-53547734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6C8-9DEB-435C-B52E-77000E8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16B-C00F-4FD9-8C85-3A714FAA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C55-E49B-43D0-9678-E0E288E1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E79-8CCE-4280-A85B-F2C53BD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C63-260C-4A5E-A2AB-C1F755B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94C-E7A3-49CD-B9FD-62551A25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B30-01E4-4532-816D-016A4727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FC6-6321-4DD1-A143-93965F46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E3F-2166-48A2-BF12-478DBDA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6FE-9C5A-4910-8420-49F5CCF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C5D-6A5A-406E-AD5E-AC96294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CB6A-E601-4914-AC4E-50EDC11D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0 Na milosť tvoju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tvoj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očakáv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tane sa čo 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a dúf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úžení sme, v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úcit s nami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, utrpenie vzdial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voju milosť d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únava nás zmár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pas ťažký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ruč nezatvár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ť novú silu v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vodcom naším stál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opraj z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mieme raz ťa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ečnej rad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49:08Z</dcterms:modified>
  <cp:revision>21</cp:revision>
  <dc:subject/>
  <dc:title>Je veľký náš Pán, on slávy je Kráľ Nech do všetkých strán  spev vrúcnych znie chvál.</dc:title>
</cp:coreProperties>
</file>